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C14-34FD-4F56-B943-EECC0682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F7A-EB66-403A-BB6C-9ECE35E5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288-9114-4DE4-9484-9F0E8F77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589-7CEE-4B96-8537-154388DF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106-4D8D-4E2C-BA1A-8C1D9A69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E8A-CA12-4224-AF0C-7EDA2944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4CF-2A7F-43E8-B821-E2775963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EEB-9EC6-4394-B11A-71C48504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701-2F64-4C6A-BBC0-4E2D8463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6EA-51F5-4C22-BF03-6D8C233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90F-2640-4143-B388-E6A26352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622-6AAF-4FAC-AE69-36359A2E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6695-BC02-4024-BA91-9E4FF1A40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ake It Multiply!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Picture 3" descr="C:\clipart\classroom\bar-school.gif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12336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clipart\classroom\crayons1x.gif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clipart\classroom\crayons1x.gif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594468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71608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C:\clipart\classroom\crayons1x.gif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clipart\classroom\crayons1x.gif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C:\clipart\classroom\booksstackedx.gif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C:\clipart\classroom\booksstackedx.gif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clipart\classroom\booksstackedx.gif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clipart\classroom\booksstackedx.gif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clipart\classroom\booksstackedx.gif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:\clipart\classroom\booksstackedx.gif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C:\clipart\classroom\teach.gif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71608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9543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C:\clipart\classroom\booksstackedx.gif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C:\clipart\classroom\booksstackedx.gif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clipart\classroom\booksstackedx.gif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clipart\classroom\booksstackedx.gif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C:\clipart\classroom\booksstackedx.gif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2" descr="C:\clipart\classroom\appledesk.gif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3" descr="C:\clipart\classroom\appledesk.gif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C:\clipart\classroom\appledesk.gif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clipart\classroom\appledesk.gif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C:\clipart\classroom\appledesk.gif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C:\clipart\classroom\appledesk.gif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C:\clipart\classroom\appledesk.gif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C:\clipart\classroom\appledesk.gif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C:\clipart\classroom\appledesk.gif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C:\clipart\classroom\appledesk.gif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3"/>
          <p:cNvSpPr/>
          <p:nvPr/>
        </p:nvSpPr>
        <p:spPr>
          <a:xfrm>
            <a:off x="31032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4" descr="C:\clipart\Emotions\goofed.gif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clipart\classroom\appledesk.gif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clipart\classroom\appledesk.gif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clipart\classroom\appledesk.gif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clipart\classroom\appledesk.gif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clipart\classroom\appledesk.gif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clipart\classroom\appledesk.gif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clipart\classroom\appledesk.gif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clipart\classroom\appledesk.gif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clipart\classroom\appledesk.gif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3"/>
          <p:cNvSpPr/>
          <p:nvPr/>
        </p:nvSpPr>
        <p:spPr>
          <a:xfrm>
            <a:off x="67428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67428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228600" y="4495680"/>
            <a:ext cx="3048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15372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8" descr="C:\clipart\Emotions\goofed.gif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2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3" descr="C:\clipart\Emotions\surprise1x.gif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4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lipart\creatures\2fish.gif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clipart\creatures\2fish.gif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clipart\creatures\2fish.gif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clipart\creatures\2fish.gif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clipart\creatures\2fish.gif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clipart\people\boy-girl.gif"/>
          <p:cNvPicPr/>
          <p:nvPr/>
        </p:nvPicPr>
        <p:blipFill>
          <a:blip r:embed="rId1"/>
          <a:srcRect l="49409" t="0" r="-28012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clipart\creatures\cat4.gif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clipart\creatures\cat5.jpg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clipart\creatures\cat7.jpg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clipart\creatures\2fish.gif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clipart\creatures\2fish.gif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clipart\creatures\2fish.gif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clipart\creatures\2fish.gif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clipart\creatures\2fish.gif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clipart\creatures\bee1.gif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clipart\creatures\bee1.gif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clipart\creatures\bee1.gif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clipart\creatures\bee1.gif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clipart\creatures\bee1.gif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clipart\creatures\bee1.gif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clipart\creatures\bee1.gif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C:\clipart\creatures\bee1.gif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clipart\creatures\bee1.gif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C:\clipart\creatures\bee1.gif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:\clipart\creatures\bee1.gif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C:\clipart\creatures\bee1.gif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4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clipart\creatures\bee1.gif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clipart\creatures\bee1.gif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clipart\creatures\bee1.gif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clipart\creatures\bee1.gif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C:\clipart\creatures\bee1.gif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C:\clipart\creatures\bee1.gif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:\clipart\creatures\bee1.gif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C:\clipart\creatures\bee1.gif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C:\clipart\creatures\bee1.gif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C:\clipart\creatures\bee1.gif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C:\clipart\creatures\bee1.gif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C:\clipart\creatures\bee1.gif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4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C:\clipart\animated gifs\band2c.gif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clipart\animated gifs\band2c.gif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clipart\animated gifs\band2c.gif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clipart\animated gifs\band2c.gif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clipart\animated gifs\band2c.gif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clipart\animated gifs\band2c.gif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08304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C:\clipart\animated gifs\clock.gif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C:\clipart\animated gifs\clock.gif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:\clipart\animated gifs\clock.gif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C:\clipart\animated gifs\clock.gif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clipart\animated gifs\clock.gif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:\clipart\animated gifs\clock.gif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C:\clipart\animated gifs\clock.gif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C:\clipart\animated gifs\clock.gif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4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clipart\animated gifs\clock.gif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clipart\animated gifs\clock.gif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clipart\animated gifs\clock.gif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clipart\animated gifs\clock.gif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clipart\animated gifs\clock.gif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clipart\animated gifs\clock.gif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clipart\animated gifs\clock.gif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clipart\animated gifs\clock.gif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160056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2" descr="C:\clipart\creatures\monkeys3.gif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C:\clipart\creatures\monkeys3.gif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C:\clipart\creatures\monkeys3.gif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:\clipart\creatures\monkeys3.gif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C:\clipart\creatures\monkeys3.gif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C:\clipart\creatures\monkeys3.gif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C:\clipart\creatures\monkeys3.gif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clipart\creatures\monkeys3.gif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clipart\creatures\monkeys3.gif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clipart\creatures\monkeys3.gif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clipart\creatures\monkeys3.gif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clipart\creatures\monkeys3.gif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3"/>
          <p:cNvGrpSpPr/>
          <p:nvPr/>
        </p:nvGrpSpPr>
        <p:grpSpPr>
          <a:xfrm>
            <a:off x="2819520" y="5257800"/>
            <a:ext cx="3885480" cy="532800"/>
            <a:chOff x="2819520" y="5257800"/>
            <a:chExt cx="3885480" cy="532800"/>
          </a:xfrm>
        </p:grpSpPr>
        <p:pic>
          <p:nvPicPr>
            <p:cNvPr id="220" name="Picture 34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5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3651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6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7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8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628884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39"/>
          <p:cNvGrpSpPr/>
          <p:nvPr/>
        </p:nvGrpSpPr>
        <p:grpSpPr>
          <a:xfrm>
            <a:off x="2819520" y="4267080"/>
            <a:ext cx="3885480" cy="532800"/>
            <a:chOff x="2819520" y="4267080"/>
            <a:chExt cx="3885480" cy="532800"/>
          </a:xfrm>
        </p:grpSpPr>
        <p:pic>
          <p:nvPicPr>
            <p:cNvPr id="226" name="Picture 40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3651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628884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45"/>
          <p:cNvGrpSpPr/>
          <p:nvPr/>
        </p:nvGrpSpPr>
        <p:grpSpPr>
          <a:xfrm>
            <a:off x="2819520" y="3124080"/>
            <a:ext cx="3885480" cy="532800"/>
            <a:chOff x="2819520" y="3124080"/>
            <a:chExt cx="3885480" cy="532800"/>
          </a:xfrm>
        </p:grpSpPr>
        <p:pic>
          <p:nvPicPr>
            <p:cNvPr id="232" name="Picture 46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7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3651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628884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51"/>
          <p:cNvGrpSpPr/>
          <p:nvPr/>
        </p:nvGrpSpPr>
        <p:grpSpPr>
          <a:xfrm>
            <a:off x="2819520" y="1905120"/>
            <a:ext cx="3885480" cy="532440"/>
            <a:chOff x="2819520" y="1905120"/>
            <a:chExt cx="3885480" cy="532440"/>
          </a:xfrm>
        </p:grpSpPr>
        <p:pic>
          <p:nvPicPr>
            <p:cNvPr id="238" name="Picture 52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3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3651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4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5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5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628884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clipart\creatures\cat4.gif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clipart\creatures\cat5.jpg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clipart\creatures\cat7.jpg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35412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43044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50676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048120" y="54100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8272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3"/>
          <p:cNvGrpSpPr/>
          <p:nvPr/>
        </p:nvGrpSpPr>
        <p:grpSpPr>
          <a:xfrm>
            <a:off x="2666880" y="5257800"/>
            <a:ext cx="3885480" cy="532800"/>
            <a:chOff x="2666880" y="5257800"/>
            <a:chExt cx="3885480" cy="532800"/>
          </a:xfrm>
        </p:grpSpPr>
        <p:pic>
          <p:nvPicPr>
            <p:cNvPr id="244" name="Picture 4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3499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6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433188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7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530352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8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6136200" y="525780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9"/>
          <p:cNvGrpSpPr/>
          <p:nvPr/>
        </p:nvGrpSpPr>
        <p:grpSpPr>
          <a:xfrm>
            <a:off x="2666880" y="4267080"/>
            <a:ext cx="3885480" cy="532800"/>
            <a:chOff x="2666880" y="4267080"/>
            <a:chExt cx="3885480" cy="532800"/>
          </a:xfrm>
        </p:grpSpPr>
        <p:pic>
          <p:nvPicPr>
            <p:cNvPr id="250" name="Picture 10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3499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433188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530352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6136200" y="4267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15"/>
          <p:cNvGrpSpPr/>
          <p:nvPr/>
        </p:nvGrpSpPr>
        <p:grpSpPr>
          <a:xfrm>
            <a:off x="2666880" y="3124080"/>
            <a:ext cx="3885480" cy="532800"/>
            <a:chOff x="2666880" y="3124080"/>
            <a:chExt cx="3885480" cy="532800"/>
          </a:xfrm>
        </p:grpSpPr>
        <p:pic>
          <p:nvPicPr>
            <p:cNvPr id="256" name="Picture 16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7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3499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433188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530352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2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6136200" y="3124080"/>
              <a:ext cx="41616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21"/>
          <p:cNvGrpSpPr/>
          <p:nvPr/>
        </p:nvGrpSpPr>
        <p:grpSpPr>
          <a:xfrm>
            <a:off x="2666880" y="1905120"/>
            <a:ext cx="3885480" cy="532440"/>
            <a:chOff x="2666880" y="1905120"/>
            <a:chExt cx="3885480" cy="532440"/>
          </a:xfrm>
        </p:grpSpPr>
        <p:pic>
          <p:nvPicPr>
            <p:cNvPr id="262" name="Picture 22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3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3499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4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433188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530352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6136200" y="1905120"/>
              <a:ext cx="416160" cy="5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Text Box 27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" descr="C:\clipart\icons\bookques.gif"/>
          <p:cNvPicPr/>
          <p:nvPr/>
        </p:nvPicPr>
        <p:blipFill>
          <a:blip r:embed="rId1"/>
          <a:stretch/>
        </p:blipFill>
        <p:spPr>
          <a:xfrm>
            <a:off x="7162920" y="373392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2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8" descr="C:\clipart\icons\bookques.gif"/>
          <p:cNvPicPr/>
          <p:nvPr/>
        </p:nvPicPr>
        <p:blipFill>
          <a:blip r:embed="rId1"/>
          <a:stretch/>
        </p:blipFill>
        <p:spPr>
          <a:xfrm>
            <a:off x="2514600" y="533520"/>
            <a:ext cx="1523880" cy="680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C:\clipart\icons\bookques.gif"/>
          <p:cNvPicPr/>
          <p:nvPr/>
        </p:nvPicPr>
        <p:blipFill>
          <a:blip r:embed="rId2"/>
          <a:stretch/>
        </p:blipFill>
        <p:spPr>
          <a:xfrm>
            <a:off x="2438280" y="274320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0" descr="C:\clipart\icons\bookques.gif"/>
          <p:cNvPicPr/>
          <p:nvPr/>
        </p:nvPicPr>
        <p:blipFill>
          <a:blip r:embed="rId3"/>
          <a:stretch/>
        </p:blipFill>
        <p:spPr>
          <a:xfrm>
            <a:off x="2666880" y="47242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1" descr="C:\clipart\icons\bookques.gif"/>
          <p:cNvPicPr/>
          <p:nvPr/>
        </p:nvPicPr>
        <p:blipFill>
          <a:blip r:embed="rId4"/>
          <a:stretch/>
        </p:blipFill>
        <p:spPr>
          <a:xfrm>
            <a:off x="7086600" y="60948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2" descr="C:\clipart\icons\bookques.gif"/>
          <p:cNvPicPr/>
          <p:nvPr/>
        </p:nvPicPr>
        <p:blipFill>
          <a:blip r:embed="rId5"/>
          <a:stretch/>
        </p:blipFill>
        <p:spPr>
          <a:xfrm>
            <a:off x="7010280" y="266688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3" descr="C:\clipart\icons\bookques.gif"/>
          <p:cNvPicPr/>
          <p:nvPr/>
        </p:nvPicPr>
        <p:blipFill>
          <a:blip r:embed="rId6"/>
          <a:stretch/>
        </p:blipFill>
        <p:spPr>
          <a:xfrm>
            <a:off x="7086600" y="4648320"/>
            <a:ext cx="1523880" cy="6807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8"/>
          <p:cNvGrpSpPr/>
          <p:nvPr/>
        </p:nvGrpSpPr>
        <p:grpSpPr>
          <a:xfrm>
            <a:off x="876240" y="1752480"/>
            <a:ext cx="7696440" cy="685800"/>
            <a:chOff x="876240" y="1752480"/>
            <a:chExt cx="7696440" cy="685800"/>
          </a:xfrm>
        </p:grpSpPr>
        <p:pic>
          <p:nvPicPr>
            <p:cNvPr id="284" name="Picture 9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876240" y="17906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0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7924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1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167652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2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251460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3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33526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4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42670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5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51814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6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60958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7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7010280" y="17524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19"/>
          <p:cNvGrpSpPr/>
          <p:nvPr/>
        </p:nvGrpSpPr>
        <p:grpSpPr>
          <a:xfrm>
            <a:off x="914400" y="2971800"/>
            <a:ext cx="7695720" cy="685800"/>
            <a:chOff x="914400" y="2971800"/>
            <a:chExt cx="7695720" cy="685800"/>
          </a:xfrm>
        </p:grpSpPr>
        <p:pic>
          <p:nvPicPr>
            <p:cNvPr id="294" name="Picture 20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914400" y="30099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1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7962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2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3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4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33904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5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43048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6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52192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7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61336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8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7048080" y="29718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AutoShape 29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0"/>
          <p:cNvSpPr/>
          <p:nvPr/>
        </p:nvSpPr>
        <p:spPr>
          <a:xfrm>
            <a:off x="3187080" y="6238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9"/>
          <p:cNvGrpSpPr/>
          <p:nvPr/>
        </p:nvGrpSpPr>
        <p:grpSpPr>
          <a:xfrm>
            <a:off x="380880" y="1219320"/>
            <a:ext cx="4038840" cy="685800"/>
            <a:chOff x="380880" y="1219320"/>
            <a:chExt cx="4038840" cy="685800"/>
          </a:xfrm>
        </p:grpSpPr>
        <p:pic>
          <p:nvPicPr>
            <p:cNvPr id="307" name="Picture 10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380880" y="12574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2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118116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3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2019240" y="12193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4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28573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15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3771720" y="12193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20"/>
          <p:cNvGrpSpPr/>
          <p:nvPr/>
        </p:nvGrpSpPr>
        <p:grpSpPr>
          <a:xfrm>
            <a:off x="380880" y="2133720"/>
            <a:ext cx="4038840" cy="685800"/>
            <a:chOff x="380880" y="2133720"/>
            <a:chExt cx="4038840" cy="685800"/>
          </a:xfrm>
        </p:grpSpPr>
        <p:pic>
          <p:nvPicPr>
            <p:cNvPr id="313" name="Picture 21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380880" y="21718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2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118116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23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2019240" y="21337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4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28573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5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3771720" y="21337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26"/>
          <p:cNvGrpSpPr/>
          <p:nvPr/>
        </p:nvGrpSpPr>
        <p:grpSpPr>
          <a:xfrm>
            <a:off x="380880" y="3124080"/>
            <a:ext cx="4038840" cy="685800"/>
            <a:chOff x="380880" y="3124080"/>
            <a:chExt cx="4038840" cy="685800"/>
          </a:xfrm>
        </p:grpSpPr>
        <p:pic>
          <p:nvPicPr>
            <p:cNvPr id="319" name="Picture 27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380880" y="316224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8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118116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9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01924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30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28573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31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3771720" y="312408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32"/>
          <p:cNvGrpSpPr/>
          <p:nvPr/>
        </p:nvGrpSpPr>
        <p:grpSpPr>
          <a:xfrm>
            <a:off x="380880" y="4114800"/>
            <a:ext cx="4038840" cy="685800"/>
            <a:chOff x="380880" y="4114800"/>
            <a:chExt cx="4038840" cy="685800"/>
          </a:xfrm>
        </p:grpSpPr>
        <p:pic>
          <p:nvPicPr>
            <p:cNvPr id="325" name="Picture 33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380880" y="415296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4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118116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35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2019240" y="41148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6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28573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7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3771720" y="411480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38"/>
          <p:cNvGrpSpPr/>
          <p:nvPr/>
        </p:nvGrpSpPr>
        <p:grpSpPr>
          <a:xfrm>
            <a:off x="380880" y="5105520"/>
            <a:ext cx="4038840" cy="685800"/>
            <a:chOff x="380880" y="5105520"/>
            <a:chExt cx="4038840" cy="685800"/>
          </a:xfrm>
        </p:grpSpPr>
        <p:pic>
          <p:nvPicPr>
            <p:cNvPr id="331" name="Picture 39" descr="C:\clipart\items\animmultball.gif"/>
            <p:cNvPicPr/>
            <p:nvPr/>
          </p:nvPicPr>
          <p:blipFill>
            <a:blip r:embed="rId21"/>
            <a:stretch/>
          </p:blipFill>
          <p:spPr>
            <a:xfrm>
              <a:off x="380880" y="51436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0" descr="C:\clipart\items\animmultball.gif"/>
            <p:cNvPicPr/>
            <p:nvPr/>
          </p:nvPicPr>
          <p:blipFill>
            <a:blip r:embed="rId22"/>
            <a:stretch/>
          </p:blipFill>
          <p:spPr>
            <a:xfrm>
              <a:off x="118116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1" descr="C:\clipart\items\animmultball.gif"/>
            <p:cNvPicPr/>
            <p:nvPr/>
          </p:nvPicPr>
          <p:blipFill>
            <a:blip r:embed="rId23"/>
            <a:stretch/>
          </p:blipFill>
          <p:spPr>
            <a:xfrm>
              <a:off x="2019240" y="510552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42" descr="C:\clipart\items\animmultball.gif"/>
            <p:cNvPicPr/>
            <p:nvPr/>
          </p:nvPicPr>
          <p:blipFill>
            <a:blip r:embed="rId24"/>
            <a:stretch/>
          </p:blipFill>
          <p:spPr>
            <a:xfrm>
              <a:off x="28573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43" descr="C:\clipart\items\animmultball.gif"/>
            <p:cNvPicPr/>
            <p:nvPr/>
          </p:nvPicPr>
          <p:blipFill>
            <a:blip r:embed="rId25"/>
            <a:stretch/>
          </p:blipFill>
          <p:spPr>
            <a:xfrm>
              <a:off x="3771720" y="5105520"/>
              <a:ext cx="64800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AutoShape 44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5565240" y="46483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5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16" descr="C:\clipart\items\animmultball.gif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C:\clipart\items\animmultball.gif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C:\clipart\items\animmultball.gif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0" descr="C:\clipart\items\animmultball.gif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1" descr="C:\clipart\items\animmultball.gif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2" descr="C:\clipart\items\animmultball.gif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C:\clipart\items\animmultball.gif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C:\clipart\items\animmultball.gif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25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6"/>
          <p:cNvSpPr/>
          <p:nvPr/>
        </p:nvSpPr>
        <p:spPr>
          <a:xfrm>
            <a:off x="3050640" y="5257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0" descr="C:\clipart\items\animmultball.gif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2" descr="C:\clipart\items\animmultball.gif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C:\clipart\items\animmultball.gif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C:\clipart\items\animmultball.gif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C:\clipart\items\animmultball.gif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9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3050640" y="51055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7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2822040" y="42670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19"/>
          <p:cNvGrpSpPr/>
          <p:nvPr/>
        </p:nvGrpSpPr>
        <p:grpSpPr>
          <a:xfrm>
            <a:off x="2057400" y="1752480"/>
            <a:ext cx="4952520" cy="685800"/>
            <a:chOff x="2057400" y="1752480"/>
            <a:chExt cx="4952520" cy="685800"/>
          </a:xfrm>
        </p:grpSpPr>
        <p:pic>
          <p:nvPicPr>
            <p:cNvPr id="362" name="Picture 10" descr="C:\clipart\items\animmultball.gif"/>
            <p:cNvPicPr/>
            <p:nvPr/>
          </p:nvPicPr>
          <p:blipFill>
            <a:blip r:embed="rId1"/>
            <a:stretch/>
          </p:blipFill>
          <p:spPr>
            <a:xfrm>
              <a:off x="2057400" y="17906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2" descr="C:\clipart\items\animmultball.gif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3" descr="C:\clipart\items\animmultball.gif"/>
            <p:cNvPicPr/>
            <p:nvPr/>
          </p:nvPicPr>
          <p:blipFill>
            <a:blip r:embed="rId3"/>
            <a:stretch/>
          </p:blipFill>
          <p:spPr>
            <a:xfrm>
              <a:off x="3695400" y="17524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4" descr="C:\clipart\items\animmultball.gif"/>
            <p:cNvPicPr/>
            <p:nvPr/>
          </p:nvPicPr>
          <p:blipFill>
            <a:blip r:embed="rId4"/>
            <a:stretch/>
          </p:blipFill>
          <p:spPr>
            <a:xfrm>
              <a:off x="45334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5" descr="C:\clipart\items\animmultball.gif"/>
            <p:cNvPicPr/>
            <p:nvPr/>
          </p:nvPicPr>
          <p:blipFill>
            <a:blip r:embed="rId5"/>
            <a:stretch/>
          </p:blipFill>
          <p:spPr>
            <a:xfrm>
              <a:off x="54478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6" descr="C:\clipart\items\animmultball.gif"/>
            <p:cNvPicPr/>
            <p:nvPr/>
          </p:nvPicPr>
          <p:blipFill>
            <a:blip r:embed="rId6"/>
            <a:stretch/>
          </p:blipFill>
          <p:spPr>
            <a:xfrm>
              <a:off x="6362280" y="17524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Group 20"/>
          <p:cNvGrpSpPr/>
          <p:nvPr/>
        </p:nvGrpSpPr>
        <p:grpSpPr>
          <a:xfrm>
            <a:off x="2057400" y="3124080"/>
            <a:ext cx="4952520" cy="685800"/>
            <a:chOff x="2057400" y="3124080"/>
            <a:chExt cx="4952520" cy="685800"/>
          </a:xfrm>
        </p:grpSpPr>
        <p:pic>
          <p:nvPicPr>
            <p:cNvPr id="369" name="Picture 21" descr="C:\clipart\items\animmultball.gif"/>
            <p:cNvPicPr/>
            <p:nvPr/>
          </p:nvPicPr>
          <p:blipFill>
            <a:blip r:embed="rId7"/>
            <a:stretch/>
          </p:blipFill>
          <p:spPr>
            <a:xfrm>
              <a:off x="2057400" y="316224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22" descr="C:\clipart\items\animmultball.gif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23" descr="C:\clipart\items\animmultball.gif"/>
            <p:cNvPicPr/>
            <p:nvPr/>
          </p:nvPicPr>
          <p:blipFill>
            <a:blip r:embed="rId9"/>
            <a:stretch/>
          </p:blipFill>
          <p:spPr>
            <a:xfrm>
              <a:off x="3695400" y="312408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24" descr="C:\clipart\items\animmultball.gif"/>
            <p:cNvPicPr/>
            <p:nvPr/>
          </p:nvPicPr>
          <p:blipFill>
            <a:blip r:embed="rId10"/>
            <a:stretch/>
          </p:blipFill>
          <p:spPr>
            <a:xfrm>
              <a:off x="45334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25" descr="C:\clipart\items\animmultball.gif"/>
            <p:cNvPicPr/>
            <p:nvPr/>
          </p:nvPicPr>
          <p:blipFill>
            <a:blip r:embed="rId11"/>
            <a:stretch/>
          </p:blipFill>
          <p:spPr>
            <a:xfrm>
              <a:off x="54478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6" descr="C:\clipart\items\animmultball.gif"/>
            <p:cNvPicPr/>
            <p:nvPr/>
          </p:nvPicPr>
          <p:blipFill>
            <a:blip r:embed="rId12"/>
            <a:stretch/>
          </p:blipFill>
          <p:spPr>
            <a:xfrm>
              <a:off x="6362280" y="312408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Group 27"/>
          <p:cNvGrpSpPr/>
          <p:nvPr/>
        </p:nvGrpSpPr>
        <p:grpSpPr>
          <a:xfrm>
            <a:off x="2133720" y="4343400"/>
            <a:ext cx="4952520" cy="685800"/>
            <a:chOff x="2133720" y="4343400"/>
            <a:chExt cx="4952520" cy="685800"/>
          </a:xfrm>
        </p:grpSpPr>
        <p:pic>
          <p:nvPicPr>
            <p:cNvPr id="376" name="Picture 28" descr="C:\clipart\items\animmultball.gif"/>
            <p:cNvPicPr/>
            <p:nvPr/>
          </p:nvPicPr>
          <p:blipFill>
            <a:blip r:embed="rId13"/>
            <a:stretch/>
          </p:blipFill>
          <p:spPr>
            <a:xfrm>
              <a:off x="2133720" y="4381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9" descr="C:\clipart\items\animmultball.gif"/>
            <p:cNvPicPr/>
            <p:nvPr/>
          </p:nvPicPr>
          <p:blipFill>
            <a:blip r:embed="rId14"/>
            <a:stretch/>
          </p:blipFill>
          <p:spPr>
            <a:xfrm>
              <a:off x="293364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0" descr="C:\clipart\items\animmultball.gif"/>
            <p:cNvPicPr/>
            <p:nvPr/>
          </p:nvPicPr>
          <p:blipFill>
            <a:blip r:embed="rId15"/>
            <a:stretch/>
          </p:blipFill>
          <p:spPr>
            <a:xfrm>
              <a:off x="3771720" y="4343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1" descr="C:\clipart\items\animmultball.gif"/>
            <p:cNvPicPr/>
            <p:nvPr/>
          </p:nvPicPr>
          <p:blipFill>
            <a:blip r:embed="rId16"/>
            <a:stretch/>
          </p:blipFill>
          <p:spPr>
            <a:xfrm>
              <a:off x="46098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32" descr="C:\clipart\items\animmultball.gif"/>
            <p:cNvPicPr/>
            <p:nvPr/>
          </p:nvPicPr>
          <p:blipFill>
            <a:blip r:embed="rId17"/>
            <a:stretch/>
          </p:blipFill>
          <p:spPr>
            <a:xfrm>
              <a:off x="55242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33" descr="C:\clipart\items\animmultball.gif"/>
            <p:cNvPicPr/>
            <p:nvPr/>
          </p:nvPicPr>
          <p:blipFill>
            <a:blip r:embed="rId18"/>
            <a:stretch/>
          </p:blipFill>
          <p:spPr>
            <a:xfrm>
              <a:off x="6438600" y="4343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34"/>
          <p:cNvGrpSpPr/>
          <p:nvPr/>
        </p:nvGrpSpPr>
        <p:grpSpPr>
          <a:xfrm>
            <a:off x="2057400" y="5486400"/>
            <a:ext cx="4952520" cy="685800"/>
            <a:chOff x="2057400" y="5486400"/>
            <a:chExt cx="4952520" cy="685800"/>
          </a:xfrm>
        </p:grpSpPr>
        <p:pic>
          <p:nvPicPr>
            <p:cNvPr id="383" name="Picture 35" descr="C:\clipart\items\animmultball.gif"/>
            <p:cNvPicPr/>
            <p:nvPr/>
          </p:nvPicPr>
          <p:blipFill>
            <a:blip r:embed="rId19"/>
            <a:stretch/>
          </p:blipFill>
          <p:spPr>
            <a:xfrm>
              <a:off x="2057400" y="552456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36" descr="C:\clipart\items\animmultball.gif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37" descr="C:\clipart\items\animmultball.gif"/>
            <p:cNvPicPr/>
            <p:nvPr/>
          </p:nvPicPr>
          <p:blipFill>
            <a:blip r:embed="rId21"/>
            <a:stretch/>
          </p:blipFill>
          <p:spPr>
            <a:xfrm>
              <a:off x="3695400" y="5486400"/>
              <a:ext cx="6472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38" descr="C:\clipart\items\animmultball.gif"/>
            <p:cNvPicPr/>
            <p:nvPr/>
          </p:nvPicPr>
          <p:blipFill>
            <a:blip r:embed="rId22"/>
            <a:stretch/>
          </p:blipFill>
          <p:spPr>
            <a:xfrm>
              <a:off x="45334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9" descr="C:\clipart\items\animmultball.gif"/>
            <p:cNvPicPr/>
            <p:nvPr/>
          </p:nvPicPr>
          <p:blipFill>
            <a:blip r:embed="rId23"/>
            <a:stretch/>
          </p:blipFill>
          <p:spPr>
            <a:xfrm>
              <a:off x="54478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0" descr="C:\clipart\items\animmultball.gif"/>
            <p:cNvPicPr/>
            <p:nvPr/>
          </p:nvPicPr>
          <p:blipFill>
            <a:blip r:embed="rId24"/>
            <a:stretch/>
          </p:blipFill>
          <p:spPr>
            <a:xfrm>
              <a:off x="6362280" y="5486400"/>
              <a:ext cx="64764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7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WordArt 2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How did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you do?</a:t>
            </a:r>
            <a:endParaRPr b="1" lang="en-US" sz="60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66976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5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6" descr="C:\clipart\Emotions\surprise1x.gif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clipart\creatures\cat4.gif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clipart\creatures\cat5.jpg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clipart\creatures\cat7.jpg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83652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6360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281952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58236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5024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C:\clipart\classroom\boysfight.gif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132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C:\clipart\classroom\boysfight.gif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clipart\classroom\boysfight.gif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35112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>
            <a:off x="5562720" y="3581280"/>
            <a:ext cx="335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40188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64012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C:\clipart\classroom\crayons1x.gif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clipart\classroom\crayons1x.gif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43:41Z</dcterms:created>
  <dc:creator>Jefferson County Schools</dc:creator>
  <dc:description/>
  <dc:language>en-US</dc:language>
  <cp:lastModifiedBy>Jacki Kratz</cp:lastModifiedBy>
  <dcterms:modified xsi:type="dcterms:W3CDTF">2012-01-03T20:01:40Z</dcterms:modified>
  <cp:revision>6</cp:revision>
  <dc:subject/>
  <dc:title>PowerPoint Presentation</dc:title>
</cp:coreProperties>
</file>